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8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0.png" ContentType="image/png"/>
  <Override PartName="/ppt/media/image12.png" ContentType="image/png"/>
  <Override PartName="/ppt/media/image34.wmf" ContentType="image/x-wmf"/>
  <Override PartName="/ppt/media/image9.wmf" ContentType="image/x-wmf"/>
  <Override PartName="/ppt/media/image14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41.jpeg" ContentType="image/jpeg"/>
  <Override PartName="/ppt/media/image45.png" ContentType="image/png"/>
  <Override PartName="/ppt/media/image47.png" ContentType="image/png"/>
  <Override PartName="/ppt/media/image10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23.wmf" ContentType="image/x-wmf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E950F-D9DE-413F-967F-8E7DBB4EF7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271C9-1E7F-49DA-8557-7CEC21798E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94433-087B-4D1C-B810-0E93850CA3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B0C0B-17BD-4113-AFB2-924F7339B8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иректн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органск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атериј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олекул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Н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РН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теи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)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во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кидањ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тојећ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варањ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ов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вез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След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ремећај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етаболизм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физиолошк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функциј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утациј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смр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ћелиј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асти-липидни пероксид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Угљени хидрати-преки дугих лана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мена растворљивости проте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5A5C2-2E66-4694-B55A-CA01746366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F4A62-2ABB-4192-981D-5B9242B908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36B50-9B81-4F1F-86F1-8D2CBBCAEF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usled radiolize vode stvaraju se reaktivni  slobodni radikali: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H, OH, H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 koji  reaguju sa  intracelularnim molekulima kidajući molekularne veze.  Preostali deo molekula se ponaša kao slobodni  radikal koji stupa u reakciju sa  drugim radikalima stvarajući nove tipove  molekula koji i gube svoju biološku funkciju.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B23E4E-A5CA-4EA4-9FAD-9D4A063FB7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C69AA-D192-4E59-A020-202BD865D3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4B7CE-F7FF-42B5-B46D-99B28DA231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4C778-C300-43C1-B2CE-8F8C42096D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D345D-36BE-4136-B486-6822C3DE0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326C9-E5AD-465A-9AFD-5516950E9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1200" spc="-1" strike="noStrike">
                <a:solidFill>
                  <a:srgbClr val="ff9900"/>
                </a:solidFill>
                <a:latin typeface="Times New Roman"/>
                <a:ea typeface="Microsoft YaHei"/>
              </a:rPr>
              <a:t>Jonizacija se dešava kada energija  zračenja izbaci   elektron iz orbite atoma sredine kroz koju zračenje prolazi. Pri tome atom postaje pozitivno  naelekti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1200" spc="-1" strike="noStrike">
                <a:solidFill>
                  <a:srgbClr val="ff9900"/>
                </a:solidFill>
                <a:latin typeface="Times New Roman"/>
                <a:ea typeface="Microsoft YaHei"/>
              </a:rPr>
              <a:t>   “ </a:t>
            </a:r>
            <a:r>
              <a:rPr b="1" lang="sr-Latn-CS" sz="1200" spc="-1" strike="noStrike">
                <a:solidFill>
                  <a:srgbClr val="ff9900"/>
                </a:solidFill>
                <a:latin typeface="Times New Roman"/>
                <a:ea typeface="Microsoft YaHei"/>
              </a:rPr>
              <a:t>pozitivan jon”(+ )  tj. atom je “ jonizovan</a:t>
            </a:r>
            <a:r>
              <a:rPr b="1" lang="en-US" sz="1200" spc="-1" strike="noStrike">
                <a:solidFill>
                  <a:srgbClr val="ff9900"/>
                </a:solidFill>
                <a:latin typeface="Times New Roman"/>
                <a:ea typeface="Microsoft YaHei"/>
              </a:rPr>
              <a:t>”</a:t>
            </a:r>
            <a:r>
              <a:rPr b="1" lang="sr-Latn-CS" sz="1200" spc="-1" strike="noStrike">
                <a:solidFill>
                  <a:srgbClr val="ff9900"/>
                </a:solidFill>
                <a:latin typeface="Times New Roman"/>
                <a:ea typeface="Microsoft YaHei"/>
              </a:rPr>
              <a:t> i sa izbačenim elektonom e(-)  predstavlja “jonski par”. </a:t>
            </a:r>
            <a:r>
              <a:rPr b="0" i="1" lang="sr-Latn-C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Ako se  ovaj proces dešava  u nekoj ćeliji tkiva, k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i="1" lang="sr-Latn-C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posledica nastale jonizacije  pojavljuju se biološki efek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C199D5-63C6-4809-B060-D63486F0B7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40D8C-73D0-461B-B67F-944ACCC69B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0BC4A-914D-4BEF-995D-CB9F913D15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латентна фаза (2-7 дана): без субјективних поремећаја, уништене  су само матичне ћелије радиосензитивних ткива, док диференциране функционишу до природне смр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анифестна фаза зависи директно од експозиционе дозе којом је организам озраче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јмање дозе - никакви клинички манифестни поремећај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C26121-DE48-4D1B-AA6C-DAD087B753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3B36C-E3BF-4CFB-8486-B973B26A4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EE5B7-D6BA-4515-9A11-8A35972508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78586-1D70-48A0-A585-996E92CD18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4D2B0-677A-49F8-A9CD-527D9F7ED0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5187F-63D3-4831-B16C-2FFE05786F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6F4FF-5A1E-450A-87C6-0A75A70D2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5DDC0-8B1B-4D08-A419-8DF1866DE2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50C49-0F11-4891-8C79-E3122CBB45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F0388-64C3-4099-BC02-9EA2FE6A24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FF955-EAAD-46E5-94F1-6A30218504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8726C-9C67-481B-8336-C3BE0C7056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67C4F-6D25-4869-91F4-0D5397FEEB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E683A-EBAB-4D18-843E-B17D14372F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96C07-AB3B-4D60-9FFF-65DABE652A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F2151-A960-4DB3-9EC6-D2775AFF32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68DA4-E33F-49DF-9C5E-CCE61683E3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F3FBA-E673-45AD-93E5-4CAE09E01B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5DAC5-857E-4CD2-B4DC-0653E27915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EBF3F-4013-4954-9EC3-9F3C446C3E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71DBC-7174-4C08-8128-06446292F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AAD81-A57A-4349-9D40-E098C3B691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0487C-3A4A-4F0C-B465-C52DA6A9A3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681BE-7C82-4323-98F2-79935F5397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4A2F4-7A5E-499C-AB55-0A45B994E0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0E247-AFD7-477D-9EDE-EA09CDE9C9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F4D13-F9E9-44F5-9FF0-286BAE5808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496EB-44D2-4334-B9D8-B22F926CF1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EE170-15E8-45D9-99E6-13AAFBA2E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40C5C-CCBC-4F2D-8D8C-3038CADD0C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534D5-6CB3-4B8B-927F-1E69017D06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EEB2F-4E1A-4697-9DC1-97DF7D417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E9FB-DC14-485D-989E-24D6668E3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98DA-DD9B-4A0D-B5B2-5E7CA5FAF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9DEC-2379-4B27-A710-A528FA839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215A-BC45-48D2-BC2B-71788FC70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BA27-DDA8-4CC6-98FF-7755C292A3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9D12-E7D9-4C05-8580-DA20E3E323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FA23-CBC8-4EAA-885C-75FE976B8F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45CD-B622-4906-98DC-BCCEEFCAA1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59A5C-DF0F-40B6-AB00-2D619DA09B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9C5A-6DC3-4A26-BB02-477099D840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8F10-9247-4300-ADA4-C627283B3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6241-071D-4888-8322-EECBF9D3C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8732-B4B9-437A-AC57-A0D4707125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F8F3-505C-456D-9804-4CE3319DAF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AC26-8830-413D-A125-1A5582E9DB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6452-8B5D-49F5-AE01-800181BB66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0C3E-2446-4283-A83F-D46A9E4B6D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E2C-96A2-461F-9571-17CD31CFE5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A41-BCA1-4514-B1C8-81ECB871B9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396-9678-4E19-985C-89836C71D3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AAA-D076-4DC0-B665-20981D54E6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B1A-0244-4B96-8468-2623A8CC48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5E56-9AA0-4584-AD96-A0D16D5625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CF0-20CA-4A15-B5CB-8D63AC9B9B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AE2-36F7-484C-A66F-CCA0411B3A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F84-3497-4FE9-A44F-BCD9BE3F66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C1B-A20C-4BFF-BCF2-ED302FFAE0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5A8-1B56-4539-B28E-5E511BA362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E91-AB41-42C7-AE97-ADACA61E61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F29-4652-4DF4-BF1A-14E5FBB3E0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9A62D-1937-4AB7-B8DC-3CBD86C4DE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9CFEE-054A-4F27-81FE-F6EB3C198F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C38ED-CA2C-4DEE-908C-B4D629C1A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EEF0-1523-4F5E-85A8-5BFB888ABE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82687-3DAA-4434-93CE-E3CFF36E84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35E0B-9CFE-477A-9A4F-2E4ADA5B4F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B41E0-4C9F-4648-9521-7C20EA5D60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C8A66-AFD5-46FE-A62E-EBCBAE1558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50C74-BBE4-495D-88CA-96EB401D47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08E7B-35E5-4686-BFFC-A0DC358717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80153-19F6-4127-BACC-9583FCD31F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6F4B5-7B2A-477F-8DB2-1090769493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FD9BB-6890-4F9E-9B3D-A80AFDF6AA4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5F1EB-DFCB-473F-BDD4-C679C27A9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489D-9761-44EC-9532-27FFC03242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E4B46-91DB-4FCD-AAE6-C2B9D8CDAC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79112-20A6-4770-8D21-FDBA66E34C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4CA25-742F-40B1-9702-6AA9957B6C4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25B33-0740-4736-830F-86F46DA75DC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E58F3-3FFC-48F9-90EC-AB6F8031EF2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513B5-5351-4ED6-9C49-16C5672AA6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18D2B-35BF-4316-920C-F37C05957B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5BC3C-8377-4E71-973D-DAF8FED3347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16B4C-7809-4C50-82FE-F1627E36DE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0BD58-BB6F-4A32-9540-ADFF17E73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17CA-AA19-4A20-B177-081D21C873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56B8D-740E-47EA-BBF3-5E28336367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FA54-586E-480D-902A-34C2A0B59A9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89AD-FB57-4588-A859-AC2DF51274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ABB6-5CEC-4F77-93B8-85A9B8890B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8DF8-80F4-4D4D-823A-58D90FC5A3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3A62-0CF4-468A-AC54-2E00E1E5A8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5034-66F8-4A3E-86F3-421B7684E72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B8B3-F0DD-4D29-9BFD-FE0FA04609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A134-701C-45A1-8DF2-E6FC665886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F3F9-AC53-4CF5-ACDB-98AB991BB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CA93-8D1A-44D2-B24D-2E2A02007CF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7CD7-FD67-4AF8-BE67-BC4EA7E481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54FF-3D4D-465D-BA04-734009611BE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8510-9209-4E37-B658-BB3B9F49F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958B-2A71-455D-BFE6-CBA5CE1FB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CBDB-B1CC-4F9E-9978-3C0014748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10883-7E66-46C8-AA63-E5682AEC9DF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Freeform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50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5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8E5C2-DD02-474D-8FF4-95DC64FA79C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Freeform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97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5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2C257-4035-4476-9690-00D0973E2E0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Freeform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801D9-3E98-4D64-AB30-3CEF16620E6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Group 2"/>
          <p:cNvGrpSpPr/>
          <p:nvPr/>
        </p:nvGrpSpPr>
        <p:grpSpPr>
          <a:xfrm>
            <a:off x="-3240" y="4952880"/>
            <a:ext cx="9145800" cy="1909800"/>
            <a:chOff x="-3240" y="4952880"/>
            <a:chExt cx="9145800" cy="1909800"/>
          </a:xfrm>
        </p:grpSpPr>
        <p:sp>
          <p:nvSpPr>
            <p:cNvPr id="190" name="Freeform 3"/>
            <p:cNvSpPr/>
            <p:nvPr/>
          </p:nvSpPr>
          <p:spPr>
            <a:xfrm>
              <a:off x="1693800" y="4952880"/>
              <a:ext cx="7442280" cy="484200"/>
            </a:xfrm>
            <a:custGeom>
              <a:avLst/>
              <a:gdLst>
                <a:gd name="textAreaLeft" fmla="*/ 0 w 7442280"/>
                <a:gd name="textAreaRight" fmla="*/ 7442640 w 74422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46080" y="5235480"/>
              <a:ext cx="9091440" cy="784440"/>
            </a:xfrm>
            <a:custGeom>
              <a:avLst/>
              <a:gdLst>
                <a:gd name="textAreaLeft" fmla="*/ 0 w 9091440"/>
                <a:gd name="textAreaRight" fmla="*/ 9091440 w 909144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3240" y="4992840"/>
              <a:ext cx="9139320" cy="1869840"/>
              <a:chOff x="3240" y="4992840"/>
              <a:chExt cx="9139320" cy="1869840"/>
            </a:xfrm>
          </p:grpSpPr>
          <p:pic>
            <p:nvPicPr>
              <p:cNvPr id="193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4992840"/>
                <a:ext cx="9139320" cy="18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Text Box 7"/>
              <p:cNvSpPr/>
              <p:nvPr/>
            </p:nvSpPr>
            <p:spPr>
              <a:xfrm>
                <a:off x="936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95" name="Picture 8" descr=""/>
            <p:cNvPicPr/>
            <p:nvPr/>
          </p:nvPicPr>
          <p:blipFill>
            <a:blip r:embed="rId3"/>
            <a:stretch/>
          </p:blipFill>
          <p:spPr>
            <a:xfrm>
              <a:off x="-3240" y="4986360"/>
              <a:ext cx="9145800" cy="81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981B8-F9A4-4D31-B781-BD4658DEB0D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D594B-0CBD-4EC9-9404-420CBF72B43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280" y="1700280"/>
            <a:ext cx="728172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464646"/>
                </a:solidFill>
                <a:latin typeface="Lucida Sans Unicode"/>
              </a:rPr>
              <a:t>Биолошки ефекти зрачења</a:t>
            </a:r>
            <a:br>
              <a:rPr sz="4200"/>
            </a:br>
            <a:r>
              <a:rPr b="1" lang="en-US" sz="4200" spc="-1" strike="noStrike">
                <a:solidFill>
                  <a:srgbClr val="464646"/>
                </a:solidFill>
                <a:latin typeface="Lucida Sans Unicode"/>
              </a:rPr>
              <a:t>Заштита од зрачења</a:t>
            </a:r>
            <a:br>
              <a:rPr sz="4200"/>
            </a:br>
            <a:r>
              <a:rPr b="1" lang="en-US" sz="4200" spc="-1" strike="noStrike">
                <a:solidFill>
                  <a:srgbClr val="464646"/>
                </a:solidFill>
                <a:latin typeface="Lucida Sans Unicode"/>
              </a:rPr>
              <a:t>Дозе и јединице зрачења</a:t>
            </a:r>
            <a:endParaRPr b="1" lang="en-US" sz="42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Четврта фаза-биолошки ефекти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76280" y="1700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стали јони и слободни радикали реагују међусобно и са оближњим атомима и молекулима, тако долази до хемијских промен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живој материји након хемијских следе биолошке промен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иолошке промене настају после неколико секунди или више деценија. Могу одмах уништити или изменити ћелију на добар, лош или неутралан нач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88920" y="1414440"/>
            <a:ext cx="8964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Latn-CS" sz="2700" spc="-1" strike="noStrike">
                <a:solidFill>
                  <a:srgbClr val="ff8119"/>
                </a:solidFill>
                <a:latin typeface="Arial"/>
                <a:ea typeface="Arial"/>
              </a:rPr>
              <a:t>“</a:t>
            </a:r>
            <a:r>
              <a:rPr b="0" lang="sr-RS" sz="2400" spc="-1" strike="noStrike">
                <a:solidFill>
                  <a:srgbClr val="ff8119"/>
                </a:solidFill>
                <a:latin typeface="Arial"/>
                <a:ea typeface="Arial"/>
              </a:rPr>
              <a:t>Теорија</a:t>
            </a:r>
            <a:r>
              <a:rPr b="0" lang="sr-Latn-CS" sz="2400" spc="-1" strike="noStrike">
                <a:solidFill>
                  <a:srgbClr val="ff8119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ff8119"/>
                </a:solidFill>
                <a:latin typeface="Arial"/>
                <a:ea typeface="Arial"/>
              </a:rPr>
              <a:t>мет</a:t>
            </a:r>
            <a:r>
              <a:rPr b="0" lang="sr-Latn-CS" sz="2400" spc="-1" strike="noStrike">
                <a:solidFill>
                  <a:srgbClr val="ff8119"/>
                </a:solidFill>
                <a:latin typeface="Arial"/>
                <a:ea typeface="Arial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-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еф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луч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ирект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итал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једр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о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ензи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↓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цеп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л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Ензи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 -S-H  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ксид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→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онал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H (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к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→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онал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редослед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енату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ад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464646"/>
                </a:solidFill>
                <a:latin typeface="Lucida Sans Unicode"/>
              </a:rPr>
              <a:t>Директно дејство</a:t>
            </a:r>
            <a:endParaRPr b="1" lang="en-US" sz="3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395280" y="476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штећење двоструког ланца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K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може да доведе до смрти соматске ћелије или у герминативној ћелији да доведе до мутације која се преноси на све ћелије новог организма и да се искаже као наследни поремећај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Хромозомске аберације (делеције, инверзије, транслокације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олекул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од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јзаступљениј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живој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териј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85%).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елик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ероватноћ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ћ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олекул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од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в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туп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нтеракциј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ем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стабилн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нфигурациј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спарен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лектрон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ледњој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рбит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могућав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ов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хемијск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еакциј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ез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ђ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кромолекули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диолизом воде долази до стварања изузетно реактивних једињењатј. </a:t>
            </a:r>
            <a:r>
              <a:rPr b="0" i="1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ЛОБОДНИХ РАДИКАЛА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 којих је хидроксилни радикал снажни оксиданс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 атом Н снажни редуктанс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7308720" y="4941720"/>
            <a:ext cx="1635120" cy="1706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Индиректно дејство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684360" y="5373720"/>
            <a:ext cx="2444760" cy="515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3"/>
          <a:stretch/>
        </p:blipFill>
        <p:spPr>
          <a:xfrm>
            <a:off x="3608280" y="5373720"/>
            <a:ext cx="3700440" cy="5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2. Секундарни ефeкти</a:t>
            </a:r>
            <a:br>
              <a:rPr sz="4100"/>
            </a:b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1040"/>
            <a:ext cx="84358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биохемијске и патофизиолошке промене у ћелијам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Повећана  пропустљивост ћелијске мембране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Инхибиција оксидативне фосфорилације у митохондријама и једру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Ремети се процес митозе ћелија →до прекида деобе ћелија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пикноза и кариолиза ћелија → до смрти ћелије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Радијационо оштећење ћелије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46120" y="1196640"/>
            <a:ext cx="8050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Lucida Sans Unicode"/>
              </a:rPr>
              <a:t>G1</a:t>
            </a:r>
            <a:r>
              <a:rPr b="0" lang="sr-RS" sz="2500" spc="-1" strike="noStrike">
                <a:solidFill>
                  <a:srgbClr val="000000"/>
                </a:solidFill>
                <a:latin typeface="Lucida Sans Unicode"/>
              </a:rPr>
              <a:t> фаза има најразличитију дужину од свих фаза ћелијског циклуса. За већину ћелијских линија ћелије које имају кратку </a:t>
            </a:r>
            <a:r>
              <a:rPr b="0" lang="sr-Latn-RS" sz="2500" spc="-1" strike="noStrike">
                <a:solidFill>
                  <a:srgbClr val="000000"/>
                </a:solidFill>
                <a:latin typeface="Lucida Sans Unicode"/>
              </a:rPr>
              <a:t>G1</a:t>
            </a:r>
            <a:r>
              <a:rPr b="0" lang="sr-RS" sz="2500" spc="-1" strike="noStrike">
                <a:solidFill>
                  <a:srgbClr val="000000"/>
                </a:solidFill>
                <a:latin typeface="Lucida Sans Unicode"/>
              </a:rPr>
              <a:t>фазу најосетљивије су на у </a:t>
            </a:r>
            <a:r>
              <a:rPr b="0" lang="sr-Latn-RS" sz="2500" spc="-1" strike="noStrike">
                <a:solidFill>
                  <a:srgbClr val="000000"/>
                </a:solidFill>
                <a:latin typeface="Lucida Sans Unicode"/>
              </a:rPr>
              <a:t>G2</a:t>
            </a:r>
            <a:r>
              <a:rPr b="0" lang="sr-RS" sz="2500" spc="-1" strike="noStrike">
                <a:solidFill>
                  <a:srgbClr val="000000"/>
                </a:solidFill>
                <a:latin typeface="Lucida Sans Unicode"/>
              </a:rPr>
              <a:t> фази и митози, мање осетљиве </a:t>
            </a:r>
            <a:r>
              <a:rPr b="0" lang="sr-Latn-RS" sz="25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sr-RS" sz="25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903240" y="4149720"/>
            <a:ext cx="2660760" cy="2716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" descr=""/>
          <p:cNvPicPr/>
          <p:nvPr/>
        </p:nvPicPr>
        <p:blipFill>
          <a:blip r:embed="rId2"/>
          <a:stretch/>
        </p:blipFill>
        <p:spPr>
          <a:xfrm>
            <a:off x="4284720" y="4292640"/>
            <a:ext cx="42004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457200" y="668160"/>
            <a:ext cx="4040280" cy="762120"/>
          </a:xfrm>
          <a:prstGeom prst="rect">
            <a:avLst/>
          </a:prstGeom>
          <a:solidFill>
            <a:srgbClr val="2da2bf"/>
          </a:solidFill>
          <a:ln cap="sq"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Радиосензитивна 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457200" y="1444680"/>
            <a:ext cx="4040280" cy="3941640"/>
          </a:xfrm>
          <a:prstGeom prst="rect">
            <a:avLst/>
          </a:prstGeom>
          <a:noFill/>
          <a:ln cap="sq" w="19080">
            <a:solidFill>
              <a:srgbClr val="00b0f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Нискодиференци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Висок</a:t>
            </a:r>
            <a:r>
              <a:rPr b="0" lang="nn-N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митотски</a:t>
            </a:r>
            <a:r>
              <a:rPr b="0" lang="nn-N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инде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Веома</a:t>
            </a:r>
            <a:r>
              <a:rPr b="0" lang="nn-N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метаболички</a:t>
            </a:r>
            <a:r>
              <a:rPr b="0" lang="nn-N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акт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4672080" y="662040"/>
            <a:ext cx="4041720" cy="762120"/>
          </a:xfrm>
          <a:prstGeom prst="rect">
            <a:avLst/>
          </a:prstGeom>
          <a:solidFill>
            <a:srgbClr val="2da2bf"/>
          </a:solidFill>
          <a:ln cap="sq"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Радиорезистентна 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645080" y="1444680"/>
            <a:ext cx="4194000" cy="3941640"/>
          </a:xfrm>
          <a:prstGeom prst="rect">
            <a:avLst/>
          </a:prstGeom>
          <a:noFill/>
          <a:ln cap="sq" w="19080">
            <a:solidFill>
              <a:srgbClr val="00b0f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Високодиференци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Низак митотски инде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ВЕЛИКЕ ДОЗЕ-последице соматске и одмах уочљив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АЛЕ ДОЗЕ: последице касне и неизвесне до последњег тренутк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539640" y="2286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213336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250920" y="1217520"/>
            <a:ext cx="843588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Доза озраче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Брзина и временски распоред д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Просторни распоред дозе: (спољашње/ унутрашње; тотално/локалн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Површина тела изложена зрачењ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Врста јонизујућег зрачењ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Радиосензитивност (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радиосензитивност ћелије и индивидуална радиосензитивност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Фактори који детермнишу биолошке ефекте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Ефективно време полураспад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Време да се активност радионуклида унетог у биолошки систем смањи на половину због радиоактивног распада и биолошке елиминациј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2916360" y="3768840"/>
            <a:ext cx="236376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179280" y="1481040"/>
            <a:ext cx="885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Јонизујуће зрачење је електромагнетно или честично зрачење које може да јонизује материју и изазове оштећење ћелија живих организама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роцес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ком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рушавам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табилнос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лектронског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мотач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зовем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јонизацијом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р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јонизациј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обијам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лободан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лектрон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озитивно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електрисан</a:t>
            </a:r>
            <a:r>
              <a:rPr b="0" lang="fi-FI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статак</a:t>
            </a:r>
            <a:r>
              <a:rPr b="0" lang="fi-FI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атома</a:t>
            </a:r>
            <a:r>
              <a:rPr b="0" lang="fi-FI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fi-FI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јон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инимална потребна енергија је око 10 eV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64646"/>
                </a:solidFill>
                <a:latin typeface="Lucida Sans Unicode"/>
              </a:rPr>
              <a:t>Шта је јонизујуће зрачење?</a:t>
            </a:r>
            <a:endParaRPr b="1" lang="en-US" sz="40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457200" y="1415880"/>
            <a:ext cx="808668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куп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наков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имптом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спољених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шестонедељног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ериод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ле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зрачивањ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целог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тел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ом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ећом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0,5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Gy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 кратком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ременском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ериоду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колико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ати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јдуже 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1-2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ан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Хематопоезни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истем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ако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сетљив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Лимфоцит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јосетљивија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ела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еспираторни систем и ГИТ-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розије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луз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жа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опадање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ликула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л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Акутни радијациони синдром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Клиничке манифестације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209240"/>
            <a:ext cx="822816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Продромална: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после 2-24 сата: општа слабост, малаксалост, анорексија, наузеја, повраћање→сви симптоми престају за 2-3 дана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Латентна: 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без симптома →2- 3 недеље, уништене  су само матичне ћелије радиосензитивних ткива, док диференциране функционишу до природне смрт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Фаза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клиничких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манифестација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(манифестна фаза зависи директно од експозиционе дозе којом је организам озрачен)→  језа, грозница, висока температура,  тешко дисање, тахикардија, кожна и поткожна крварења, из десни, природних отвора: хеморагични,  гастроинтестинални или церебрални  синдром  -најчешће мешани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Крв: пад Ле,  Тр,  Ер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Фаза опоравка → више месеци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Акутни радијациони синдром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09480" y="1600200"/>
          <a:ext cx="7545600" cy="4449600"/>
        </p:xfrm>
        <a:graphic>
          <a:graphicData uri="http://schemas.openxmlformats.org/drawingml/2006/table">
            <a:tbl>
              <a:tblPr/>
              <a:tblGrid>
                <a:gridCol w="1886040"/>
                <a:gridCol w="1887480"/>
                <a:gridCol w="1886040"/>
                <a:gridCol w="1886040"/>
              </a:tblGrid>
              <a:tr h="4449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Lucida Sans Unicode"/>
                          <a:ea typeface="Arial"/>
                        </a:rPr>
                        <a:t>ДО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Lucida Sans Unicode"/>
                          <a:ea typeface="Arial"/>
                        </a:rPr>
                        <a:t>Продромал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  <a:ea typeface="Arial"/>
                        </a:rPr>
                        <a:t>латен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  <a:ea typeface="Arial"/>
                        </a:rPr>
                        <a:t>манифес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597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1-3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Губита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апети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му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повраћа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Оштећењ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ћел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крвото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Инфек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4979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4-6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Интензивн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повраћањ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малаксалос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замара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Оштећењ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ћел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костн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ср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Хеморагијски 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1469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7-10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Дијаре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j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алоп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Аплаз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ацидо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Интоксикац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–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ендоге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сеп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Хронични радијациони синдром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79280" y="1481040"/>
            <a:ext cx="8856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атофизиолошке промене и клиничка стања која могу настати након дуготрајног излагања организма малим дозама зрачења ( промене на изложеним деловима коже, катаракта, леукопенија и/или рефрактерна анемија, стерилитет, опадање косе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професионална експозици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pr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Radiodermatitis chr- излагање малим дозама у току низа година → иреверзибилне промен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6326280" y="5691240"/>
            <a:ext cx="2359080" cy="1292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3003480" y="5818320"/>
            <a:ext cx="153216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Ефекти јонизујућег зрачењ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481040"/>
            <a:ext cx="822816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Детерминистички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(ефекти с прагом) су ефекти који се могу очекивати кад доза прекорачи неку, унапред познату вредност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Стохастички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(ефекти без прага) су ефекти за које не постоји праг, већ могу настати и при веома малој апсорбованој дози зрачења, теоријски при проласку само једног γ-фотона, ако при том дође до таквих промена у грађи ДНК молекула, које се не могу поправит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Дозно зависни поремећаји радиосензитивних ткив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ају праг, озбиљност зависи од примењене доз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Стерилитет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атаракт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штећења кож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3720" y="2599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Детерминистички (нестохастички) ефекти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6219720" y="4807080"/>
            <a:ext cx="2781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Стохастички ефекти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481040"/>
            <a:ext cx="822816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емају праг, видљиви након дужег периода, озбиљност не зависи од примљене доз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арциноми, леукемије, генетске промене, наследне болести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6286680" y="4500720"/>
            <a:ext cx="25826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Стохастички ефекти-онкогенеза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Природна и вештачка радиоактивност као фактор ризика у онкогенези учествује са свега 3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Дуготрајан проце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Промене на нивоу онкогена (доминантних гена) проузрокују малигну трансформацију ћелије, а промене на нивоу антионкогена доводе до губитка способности ћелије да се супротстави малигној трансформациј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4880" y="18900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Након интеракције са јонизујућим зрачењем ћелија може да: 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481040"/>
            <a:ext cx="8435880" cy="49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рођ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без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штећењ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ачуван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епродуктивн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пособнос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ам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епарир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(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штећењ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ћелиј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ем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фект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рганизам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Мутира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утицај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генетск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кодирањ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НК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Умре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леталн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злед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губитак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епродуктивн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пособност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Lucida Sans Unicode"/>
              </a:rPr>
              <a:t>Трудноћа и излагање јонизујућем зрачењу</a:t>
            </a:r>
            <a:endParaRPr b="1" lang="en-US" sz="3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22280" y="1483920"/>
            <a:ext cx="8228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Одлук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о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прекид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трудноћ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ндивидуалн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завис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од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много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фактор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Медицинск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гледано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феталн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доз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спод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100 mGy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ниј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ндикациј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прекид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трудноћ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доз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мањ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једнак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100 mGy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н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очекуј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настанак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малформациј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ризик за настанак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канцер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зазваног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зрачењем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око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1:17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Ризик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добивањ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канцер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ток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живот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без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зложеност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додатном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зрачењу износ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1:3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1720" y="18900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Извори јонизујућег зрачењ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7440" y="1267920"/>
            <a:ext cx="403704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Lucida Sans Unicode"/>
              </a:rPr>
              <a:t>Природни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-радионуклиди у литосфери, хидросфери, стенама, земљишту(</a:t>
            </a:r>
            <a:r>
              <a:rPr b="0" lang="sr-RS" sz="1800" spc="-1" strike="noStrike" baseline="30000">
                <a:solidFill>
                  <a:srgbClr val="000000"/>
                </a:solidFill>
                <a:latin typeface="Lucida Sans Unicode"/>
              </a:rPr>
              <a:t>235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U, 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Lucida Sans Unicode"/>
              </a:rPr>
              <a:t>238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U, 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Lucida Sans Unicode"/>
              </a:rPr>
              <a:t>232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Th, 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Lucida Sans Unicode"/>
              </a:rPr>
              <a:t>40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 baseline="30000">
                <a:solidFill>
                  <a:srgbClr val="000000"/>
                </a:solidFill>
                <a:latin typeface="Lucida Sans Unicode"/>
              </a:rPr>
              <a:t>222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Rn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-гас без укуса и мириса, 10х више у затвореним просторијама него на отворено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-космичко зрачење –електрони, протони и језгра лакших елемената огромних енергиј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Интеракцијом космичког зрачења са компонентама атмосфере настају </a:t>
            </a:r>
            <a:r>
              <a:rPr b="0" lang="sr-RS" sz="1800" spc="-1" strike="noStrike" baseline="30000">
                <a:solidFill>
                  <a:srgbClr val="000000"/>
                </a:solidFill>
                <a:latin typeface="Lucida Sans Unicode"/>
              </a:rPr>
              <a:t>7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Ве, </a:t>
            </a:r>
            <a:r>
              <a:rPr b="0" lang="sr-RS" sz="1800" spc="-1" strike="noStrike" baseline="30000">
                <a:solidFill>
                  <a:srgbClr val="000000"/>
                </a:solidFill>
                <a:latin typeface="Lucida Sans Unicode"/>
              </a:rPr>
              <a:t>14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С, </a:t>
            </a:r>
            <a:r>
              <a:rPr b="0" lang="sr-RS" sz="18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6160" y="1071360"/>
            <a:ext cx="40388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Lucida Sans Unicode"/>
              </a:rPr>
              <a:t>Вештач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-индустриј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-истраживачки центр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Трудноћа и излагање јонизујућем зрачењу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5160" y="1557360"/>
            <a:ext cx="8227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Lucida Sans Unicode"/>
              </a:rPr>
              <a:t>Дозе јонизујућих зрачења у дијагностичке сврхе у нуклеарној медицини не могу бити узрок малформација плода и нису индикација за прекид трудноће (став националне комисије САД за заштиту од радијације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Lucida Sans Unicode"/>
              </a:rPr>
              <a:t>Радиосензитивност фетуса је највећа 2.</a:t>
            </a:r>
            <a:r>
              <a:rPr b="0" lang="sr-Latn-RS" sz="2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Lucida Sans Unicode"/>
              </a:rPr>
              <a:t>4. недеље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" descr=""/>
          <p:cNvPicPr/>
          <p:nvPr/>
        </p:nvPicPr>
        <p:blipFill>
          <a:blip r:embed="rId1"/>
          <a:stretch/>
        </p:blipFill>
        <p:spPr>
          <a:xfrm>
            <a:off x="225360" y="298440"/>
            <a:ext cx="8394840" cy="1444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676520" y="1371600"/>
            <a:ext cx="5486400" cy="42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1481040"/>
            <a:ext cx="822960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кспозициона доза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-нам д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је информацију колику јонизацију, односно колико наелектрисање прави у ваздуху радијација (x и гама зрачење) при проласк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дставља количину енергије зрачења апсорбовану у ваздуху, а измерена преко његове јонизациј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диниц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/kg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улон по килограм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личина зрачења која у 1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kg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аздуха може створити јоне истог знака укупног наелектрисања од 1С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тара јединица: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R </a:t>
            </a:r>
            <a:r>
              <a:rPr b="0" i="1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рентген)</a:t>
            </a:r>
            <a:r>
              <a:rPr b="0" i="1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Roentgen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1 R = 2.58×10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Lucida Sans Unicode"/>
                <a:ea typeface="Arial"/>
              </a:rPr>
              <a:t>−4 </a:t>
            </a:r>
            <a:r>
              <a:rPr b="0" i="1" lang="pt-BR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/k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4400" spc="-1" strike="noStrike">
                <a:solidFill>
                  <a:srgbClr val="464646"/>
                </a:solidFill>
                <a:latin typeface="Lucida Sans Unicode"/>
              </a:rPr>
              <a:t>Експозициона доза</a:t>
            </a:r>
            <a:endParaRPr b="1" lang="en-US" sz="44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457200" y="1143000"/>
            <a:ext cx="82296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Lucida Sans Unicode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псорбована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а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нос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дат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нерги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с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m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зраченог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D = </a:t>
            </a:r>
            <a:r>
              <a:rPr b="0" lang="el-G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Δ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E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Lucida Sans Unicode"/>
                <a:ea typeface="Times New Roman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/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Јединиц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Џул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илограм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назван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ГРЕЈ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GRAY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Gy = J/k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ма физичару Louisu Haroldu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Gray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***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Стара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јединица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била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је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рад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rad = 10</a:t>
            </a:r>
            <a:r>
              <a:rPr b="0" i="1" lang="hr-HR" sz="2400" spc="-1" strike="noStrike" baseline="30000">
                <a:solidFill>
                  <a:srgbClr val="000000"/>
                </a:solidFill>
                <a:latin typeface="Lucida Sans Unicode"/>
                <a:ea typeface="Times New Roman"/>
              </a:rPr>
              <a:t>–2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Gy).**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Апсорбована доз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237960" y="1074600"/>
            <a:ext cx="8498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иолошк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фекат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оцењу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м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порукам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ђународн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миси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диолошк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штит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ICRP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жинским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актором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жинск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актор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W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к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тонс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утронс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…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отонс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α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тешкојонс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нач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ћ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пр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</a:t>
            </a:r>
            <a:r>
              <a:rPr b="0" lang="el-G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α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узроковат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о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20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ут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већ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биолошк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ефекат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нег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једнак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доз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рендгенског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односн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гам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зрачењ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457200" y="133524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иолошки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фекат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онизујућег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лиж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оцењуј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риговањем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змерен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псорбован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D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жинским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актором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W</a:t>
            </a:r>
            <a:r>
              <a:rPr b="0" lang="hr-HR" sz="19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R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имењено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е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квивалентна</a:t>
            </a:r>
            <a:r>
              <a:rPr b="1" lang="hr-HR" sz="25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а</a:t>
            </a:r>
            <a:r>
              <a:rPr b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H</a:t>
            </a:r>
            <a:r>
              <a:rPr b="0" lang="hr-HR" sz="19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TR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engl. equivalent dose)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иолошки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фекат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R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кив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T –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множак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жинског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актор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псорбован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е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</a:t>
            </a:r>
            <a:r>
              <a:rPr b="1" lang="hr-HR" sz="2600" spc="-1" strike="noStrike">
                <a:solidFill>
                  <a:srgbClr val="000000"/>
                </a:solidFill>
                <a:latin typeface="Lucida Sans Unicode"/>
                <a:ea typeface="Arial"/>
              </a:rPr>
              <a:t>H</a:t>
            </a:r>
            <a:r>
              <a:rPr b="1" lang="hr-HR" sz="26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TR</a:t>
            </a:r>
            <a:r>
              <a:rPr b="1" lang="hr-HR" sz="2600" spc="-1" strike="noStrike">
                <a:solidFill>
                  <a:srgbClr val="000000"/>
                </a:solidFill>
                <a:latin typeface="Lucida Sans Unicode"/>
                <a:ea typeface="Arial"/>
              </a:rPr>
              <a:t> = W</a:t>
            </a:r>
            <a:r>
              <a:rPr b="1" lang="hr-HR" sz="26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R</a:t>
            </a:r>
            <a:r>
              <a:rPr b="1" lang="hr-HR" sz="2600" spc="-1" strike="noStrike">
                <a:solidFill>
                  <a:srgbClr val="000000"/>
                </a:solidFill>
                <a:latin typeface="Lucida Sans Unicode"/>
                <a:ea typeface="Arial"/>
              </a:rPr>
              <a:t> D</a:t>
            </a:r>
            <a:r>
              <a:rPr b="1" lang="hr-HR" sz="26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T,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диниц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акођ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Џул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илограм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зван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ИВЕРТ</a:t>
            </a:r>
            <a:r>
              <a:rPr b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SIEVERT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oznaka Sv),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ј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</a:t>
            </a:r>
            <a:r>
              <a:rPr b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Sv = J/kg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према медицинском</a:t>
            </a:r>
            <a:r>
              <a:rPr b="0" lang="sr-Latn-C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изичару Rolfu Sievert</a:t>
            </a:r>
            <a:r>
              <a:rPr b="0" lang="sr-Latn-C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u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***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тара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диница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ила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ем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rem = 10</a:t>
            </a:r>
            <a:r>
              <a:rPr b="0" i="1" lang="hr-HR" sz="1900" spc="-1" strike="noStrike" baseline="30000">
                <a:solidFill>
                  <a:srgbClr val="000000"/>
                </a:solidFill>
                <a:latin typeface="Lucida Sans Unicode"/>
                <a:ea typeface="Arial"/>
              </a:rPr>
              <a:t>–2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Sv)***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ПОМЕНА</a:t>
            </a:r>
            <a:r>
              <a:rPr b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!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диниц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б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J/kg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ли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бог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ебн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ажности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људско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дрављ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пречав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њихов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мен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ебним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зивим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псорбован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греј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G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y),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квивалентн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иверт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Sv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)!!!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3924360" y="5796000"/>
            <a:ext cx="1646280" cy="8319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Еквивалентна доз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3048120" y="3621240"/>
            <a:ext cx="2822400" cy="10634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452520" y="1371600"/>
            <a:ext cx="8583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Нис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св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кив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рган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подједнако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сетљив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ејство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зрачењ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ежинск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фактор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W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ефлекту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азличит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сетљивост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зрачењ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азличитих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кив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рган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Апликациј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б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ежинск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фактор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врст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адијаци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W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врст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кив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W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а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ефективн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оз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E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fective dose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Гд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ефективн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оз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, (W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W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ежинск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фактор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адијациј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киво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D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T,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средњ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апсорбован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оз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кив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рган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ејств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адијаци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R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Јединиц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Џул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килограм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J/kg),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дносно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Сиверт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Sv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Ефективна доз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4100" spc="-1" strike="noStrike">
                <a:solidFill>
                  <a:srgbClr val="464646"/>
                </a:solidFill>
                <a:latin typeface="Lucida Sans Unicode"/>
              </a:rPr>
              <a:t>Ткивни тежински фактор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бездимензион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факто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кој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корист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заштит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јонизујућих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зрачењ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б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узел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обзи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различит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осетљивос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појединих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орг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rcRect l="0" t="32758" r="2312" b="0"/>
          <a:stretch/>
        </p:blipFill>
        <p:spPr>
          <a:xfrm>
            <a:off x="1116000" y="3255840"/>
            <a:ext cx="698508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228600"/>
            <a:ext cx="8229600" cy="62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фективна доза је у ствари мера ризика од штетних ефеката јонизујућег зрачења. Другим речима, ефективна доза нам служи за поређење стохастичког ризика (карциногенеза и хередитарни ефекти) код неуниформне експозиције јонизујућем зрачењу са ризиком који постоји код униформног излагања целог тел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ако је тежински фактор зрачења за јонизујућа зрачења која се користе у медицини (осим врло ретких случајева) једнак јединици, онда је апсорбована доза у mGy једнака еквивалентној дози у mSv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8856720" cy="4705200"/>
          </a:xfrm>
          <a:prstGeom prst="rect">
            <a:avLst/>
          </a:prstGeom>
          <a:ln cap="sq" w="3240">
            <a:solidFill>
              <a:srgbClr val="ff0000"/>
            </a:solidFill>
            <a:miter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Граница ефективне дозе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5673240" y="5334120"/>
            <a:ext cx="2782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укупно: 3 mSv/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звори из природе 79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М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едицинско излагање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20 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971640" y="627228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zvor: United Nations Scientific Committee for Effect of Atomic Radiation (UNSCEAR), 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1139760" y="1365120"/>
            <a:ext cx="6602400" cy="42735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Извори јонизујућег зрачењ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" descr=""/>
          <p:cNvPicPr/>
          <p:nvPr/>
        </p:nvPicPr>
        <p:blipFill>
          <a:blip r:embed="rId1"/>
          <a:stretch/>
        </p:blipFill>
        <p:spPr>
          <a:xfrm>
            <a:off x="2054160" y="1481040"/>
            <a:ext cx="503568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2"/>
          <a:stretch/>
        </p:blipFill>
        <p:spPr>
          <a:xfrm>
            <a:off x="682560" y="208080"/>
            <a:ext cx="78580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368360" cy="11952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Мере заштите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штита пацијена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штита професионално изложеног особљ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Заштита популац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Циљ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отпун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лиминиш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етерминистичк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вероватноћ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станк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тохастичких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фекат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едукуј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јмањ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могућ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мер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ALARA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(As Low As Resonable Achievable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инцип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олик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иск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лик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зумн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огућ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ђународни симбол зрачења први пут се појавио 1946. године на Калифорнијском универзитету Беркли</a:t>
            </a:r>
            <a:r>
              <a:rPr b="0" lang="sr-Latn-R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 Лабораторији за зрачењ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Заштита од зрачењ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7" name="Picture 1" descr=""/>
          <p:cNvPicPr/>
          <p:nvPr/>
        </p:nvPicPr>
        <p:blipFill>
          <a:blip r:embed="rId1"/>
          <a:stretch/>
        </p:blipFill>
        <p:spPr>
          <a:xfrm>
            <a:off x="3348000" y="5003640"/>
            <a:ext cx="190656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457200" y="1295280"/>
            <a:ext cx="490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аштита особ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време &lt;&l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растојање &g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шт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Заштита од контамин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Одело и обућа, Дигестори, Рукавице, Прање руку, Забрана јела и пића, Пнеуматске пипете, Безбедно уклањање отпад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ено особ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Дозвола за ра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дозимет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Picture 1" descr=""/>
          <p:cNvPicPr/>
          <p:nvPr/>
        </p:nvPicPr>
        <p:blipFill>
          <a:blip r:embed="rId1"/>
          <a:stretch/>
        </p:blipFill>
        <p:spPr>
          <a:xfrm>
            <a:off x="5796000" y="1773360"/>
            <a:ext cx="3090960" cy="3456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Заштита од зрачењ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. Заштита пацијенат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збор индикациј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збор радионуклида и радиофармацеутик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штита од спољњег зрачењ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тална и ригорозна евиденција испитивањ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Заштита од зрачењ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ндикатор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л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етектор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казу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тоја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ог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ројат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једин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тон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л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честиц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зива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ројач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рн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ређај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(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рн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нструмент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)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имењу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вантитативн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знат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нос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ког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војств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ледиц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зрач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злику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изуализатор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рагов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тон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л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чест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иметр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р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нерги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дал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териј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ројач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ј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ро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тон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л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чест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Уређаји за детекцију и мерење зрачења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иручн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рн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ређај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лаган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лих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имезиј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ј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р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рајн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егистру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луж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аћ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зрачивањ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соб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ебн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них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рајн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д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зворим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онизујућег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Главн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рст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илм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иметар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рмолуминисцентн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иметар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“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direct reading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7819920" y="3540240"/>
            <a:ext cx="1324080" cy="33177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Лични дозиметри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591080" cy="146376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"/>
          <p:cNvSpPr/>
          <p:nvPr/>
        </p:nvSpPr>
        <p:spPr>
          <a:xfrm>
            <a:off x="152280" y="1219320"/>
            <a:ext cx="3943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филм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дозимет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термолуминисцентн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дозиметар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direct reading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7467480" y="2971800"/>
            <a:ext cx="1459080" cy="2019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3"/>
          <a:stretch/>
        </p:blipFill>
        <p:spPr>
          <a:xfrm>
            <a:off x="4724280" y="2971800"/>
            <a:ext cx="2619360" cy="1219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4"/>
          <a:stretch/>
        </p:blipFill>
        <p:spPr>
          <a:xfrm>
            <a:off x="6781680" y="5029200"/>
            <a:ext cx="1785960" cy="1292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"/>
          <p:cNvPicPr/>
          <p:nvPr/>
        </p:nvPicPr>
        <p:blipFill>
          <a:blip r:embed="rId5"/>
          <a:stretch/>
        </p:blipFill>
        <p:spPr>
          <a:xfrm>
            <a:off x="4572000" y="5410080"/>
            <a:ext cx="1733400" cy="4669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8"/>
          <p:cNvSpPr/>
          <p:nvPr/>
        </p:nvSpPr>
        <p:spPr>
          <a:xfrm>
            <a:off x="4114800" y="6248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 fiber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solid stat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9800" y="853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Лични дозиметри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6" name="Picture 1" descr=""/>
          <p:cNvPicPr/>
          <p:nvPr/>
        </p:nvPicPr>
        <p:blipFill>
          <a:blip r:embed="rId6"/>
          <a:stretch/>
        </p:blipFill>
        <p:spPr>
          <a:xfrm>
            <a:off x="2340000" y="3281400"/>
            <a:ext cx="200340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Закључак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480680"/>
            <a:ext cx="822816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Јонизујуће зрачење може бити и увек јесте опасн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Петкау ефекат (dr Abram Petkau, 1972.) : не постоји безбедна доза зрачењ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Нема доњег прага нешкодљивог озрачења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Постоји горњи праг дозвољеног озрачењ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Знање омогућава ефикаснију заштиту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Заштиту треба спроводити доследно и перманентн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73408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Извори јонизујућег зрачењ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98" name="Content Placeholder 4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4319640" cy="3295800"/>
          </a:xfrm>
          <a:prstGeom prst="rect">
            <a:avLst/>
          </a:prstGeom>
          <a:ln w="0">
            <a:noFill/>
          </a:ln>
        </p:spPr>
      </p:pic>
      <p:pic>
        <p:nvPicPr>
          <p:cNvPr id="299" name="Content Placeholder 5" descr=""/>
          <p:cNvPicPr/>
          <p:nvPr/>
        </p:nvPicPr>
        <p:blipFill>
          <a:blip r:embed="rId2"/>
          <a:stretch/>
        </p:blipFill>
        <p:spPr>
          <a:xfrm>
            <a:off x="4646520" y="2081160"/>
            <a:ext cx="40388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86600" cy="5153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1828800" y="5638680"/>
            <a:ext cx="528624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22860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осл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јонизациј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кидај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интрамолекуларн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вез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Прекинут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вез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зазивај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исоцијациј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екомбинациј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молекул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живом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рганизму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такве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ромене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зазивај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азн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фект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тј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биолошк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оследиц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Радиобиолошки ефекти настају директним и индиректним дејством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Радијационо оштећење ћелије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0" y="1295280"/>
            <a:ext cx="8763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 десетобилионитом делу секунде електрон се одваја од атома и настају слободни електрон, који ако има довољну енергију може даље да јонизује, и позитивни јон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4648320" y="4226040"/>
            <a:ext cx="3944880" cy="26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46368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електрон и јон су врло нестабилни и у десетомилијардитом делу секунде интерреагују и настају нови молекули, укључујући и слободне радикал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"/>
          <p:cNvPicPr/>
          <p:nvPr/>
        </p:nvPicPr>
        <p:blipFill>
          <a:blip r:embed="rId2"/>
          <a:srcRect l="860" t="26060" r="39609" b="19761"/>
          <a:stretch/>
        </p:blipFill>
        <p:spPr>
          <a:xfrm>
            <a:off x="2627280" y="3860640"/>
            <a:ext cx="2592360" cy="17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иректно, дејством јонизујућег зрачења на виталне макромолекуле ћелија (протеине, липиде и нуклеинске киселине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4572000" y="4051440"/>
            <a:ext cx="4567320" cy="257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07:29:10Z</dcterms:created>
  <dc:creator>Info</dc:creator>
  <dc:description/>
  <dc:language>en-US</dc:language>
  <cp:lastModifiedBy>Vladimir Vukomanovic</cp:lastModifiedBy>
  <dcterms:modified xsi:type="dcterms:W3CDTF">2020-09-28T08:44:26Z</dcterms:modified>
  <cp:revision>133</cp:revision>
  <dc:subject/>
  <dc:title>БИОЛОШКИ ЕФЕКТИ ЗРАЧЕЊА</dc:title>
</cp:coreProperties>
</file>